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DE2-4913-44E6-BD85-19B2459E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B7E-AA82-46CD-AEC0-47FCBD58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421-49F6-44EC-A7AC-77393634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22E-0572-4BFC-81CA-E4EAAF58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E500-4451-499D-A3A0-FD36B90A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4BCB-1915-4528-B5A2-86206778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81EE-9359-48D4-B020-3AFACADC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A4B0-2F48-43C1-9E15-7FAC0328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A16D-C0BA-4226-9DEA-4BA806BC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35B6-8CF5-4AED-AAA8-C9D9E542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5101-3FBB-42CE-BC94-A7EA11B9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40E-22FF-474E-82C6-AB76E590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332F-40F8-43B7-B396-D510E54E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6D7E-1D87-4048-A015-CC7B3F8E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C1EF-AE65-4076-AC09-765B275C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E2DB-56B7-4F4B-A4B0-CEB131E7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0686-6BF7-4888-BBA3-2D49736A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EBA63-7B74-49C5-9B73-72C479B2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2FD78-0D78-4362-AEA7-A0BE1F39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F8637-6087-4064-AC3B-41FA02D7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DB22-55D2-4FFE-A529-540C67C8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3F03A-DCAF-4B88-A16A-8F5EAD35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D26-828A-4005-8421-5C62ED18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A61BE-6284-4464-8258-96C7E999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1AEB-E1E1-44EC-8603-7704508A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8311-A53B-4309-B88B-992CD402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050A-8F5A-461A-AE27-66007B89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96666-9B77-4041-BEE0-B6E555FF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6D94-7594-4AF5-A28F-2A2A8BCB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DDD2-9E50-445D-B224-BDF4A71C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D13BA-C9FB-44C7-8F8B-2C6BE7DF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A3313-0451-48C7-A032-5D455350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EEEA4-554E-47A8-A188-B0B2D80A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2AA-981D-4D0C-AACB-A05C4840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2C571-50F0-4409-A8D6-C1D3CE4D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66BF3-E328-4E12-8D84-A77F5341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B39D3-2CEC-4A9B-A211-939A5B68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6AE70-0508-409C-966B-AAAE52B7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126B7-BF96-42B5-972D-C1B20F94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C02B0-A9C0-4491-B385-03FC9673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7E077-C466-4F87-942B-92D0EA05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1586-0F85-4049-9C88-8FB1EF80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192D4-458A-4367-A142-FC724134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8AE5D-3C1F-4AB8-B69D-CC4C1F10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EDA-99F7-4F17-B666-E93DB64C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78642-1D59-4EBE-80DB-19BCF3BD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01B45-289B-474C-A865-C4DDC04E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8406F-3BCD-4DBC-AE0C-C84FA610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C2AB-E4F1-4FE7-A7C9-B93A62D0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FF27-4D10-453E-93C7-1713F36B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18696-EB15-4184-966C-0CCE242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8838-E117-4B7A-ABE3-0A6C821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CE525-7F98-4985-B8AC-6C09F3C7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3AFAC-A14D-46CB-8C28-1ED500CD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2C2F4-8553-4B9F-85B6-2A90BEA2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167-7F27-44B0-BB82-DCBC4363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9B00A-25CC-4E17-86C4-CB8D80AC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8F3E7-3B74-4ADA-8359-F870BAD9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122F0-2A28-4D52-98AB-1EB13887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D1C34-5B12-4A30-AEF0-FCE71AD5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3E404-29A8-4251-8197-E45CF16C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A5845-1C9B-4374-B4EB-CB602A31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F2A33-183D-4D03-A19C-174C10C7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F2F11-EB6D-4733-9D03-6B1377D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E9F95-EC57-47F7-8C71-B72C13AC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98588-A280-4E8B-A319-1BE349B2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51C-C3A8-4F81-9F0A-EE6A41A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32EFC-9836-4C40-804F-C43271B6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F85FF-B7C3-4616-98D3-29D391E6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3A7EF-9BEB-417A-8F7B-85179131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9FE0E-2193-4251-A4FB-12B71EE3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A2FA0-8300-41FA-B30E-D5865F64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71E13-07DF-40EE-B7A6-F0D93A15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2AD62-521A-4259-9E9F-459E06B6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39E42-87C3-4174-9E9A-60607D62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24414-F73E-4F9B-804C-9AEE5C1F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EA3D3-1E60-4351-A0E2-A10BDFB7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045-D598-4DE4-BCDA-D6782E22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966A0-DBD2-4654-B40F-B0F677F7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C29D8-D2CD-4DBE-84FF-33970AB5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BD3C1-6D5C-4926-9742-DF5A9FEA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6DEE7-4F05-44A4-AF0A-FDEE5387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46644-8D26-4EE7-A88F-66D4B603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9BB61-4E0F-4773-8278-2E49A6FE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F33C3-3DC5-4BA7-8CC3-F5DEAF8D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41572-A1A7-4B39-8031-9551C175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648B0-4D6D-46B6-B5B8-C520374E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C742F-46B1-46A3-A162-CDAC282D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800-4523-42C4-9EE6-8D662F8C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FE295-0749-4B66-AB57-D71F1AFE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3C851-DF1B-49F7-8BC5-357C760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9C1CC-87E4-438D-A0DE-185165A3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4D785-8EFC-43D9-BEC2-6EA2055A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A6531-910C-4003-88DD-766DC36C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3E063-9AB5-432F-A89A-89CA6549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D6037-C849-4079-BC43-570CFEC5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9494-B03D-4C52-B621-D65188688D3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F1AF-4F9E-479A-99A4-F8B40A26589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75A3-15BD-483E-B097-9FE47132A81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C739-409A-4B3D-9B96-BC9F35E9E01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00D9-24EE-4382-8F9A-46AEB39760D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DD27-2B7C-4B44-9518-876DAEAAD92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9B9D-4640-49F9-A3F5-7CA6E438459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AC13-3076-4A4B-8ADB-EAC938684BE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4.2 Physical Properti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49" name="Picture 6" descr="chemicals_in_flasks1"/>
          <p:cNvPicPr/>
          <p:nvPr/>
        </p:nvPicPr>
        <p:blipFill>
          <a:blip r:embed="rId1"/>
          <a:stretch/>
        </p:blipFill>
        <p:spPr>
          <a:xfrm>
            <a:off x="1825560" y="1600200"/>
            <a:ext cx="5492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hysical Properties of Mat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tter can be described based on observed and measured trait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re are two types of physical propertie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alitativ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antitativ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52" name="Picture 14" descr="9093_kettle_new"/>
          <p:cNvPicPr/>
          <p:nvPr/>
        </p:nvPicPr>
        <p:blipFill>
          <a:blip r:embed="rId1"/>
          <a:stretch/>
        </p:blipFill>
        <p:spPr>
          <a:xfrm>
            <a:off x="28195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7"/>
          <p:cNvSpPr/>
          <p:nvPr/>
        </p:nvSpPr>
        <p:spPr>
          <a:xfrm>
            <a:off x="304920" y="3886200"/>
            <a:ext cx="2590560" cy="914400"/>
          </a:xfrm>
          <a:prstGeom prst="cloudCallout">
            <a:avLst>
              <a:gd name="adj1" fmla="val 65625"/>
              <a:gd name="adj2" fmla="val 126564"/>
            </a:avLst>
          </a:prstGeom>
          <a:solidFill>
            <a:srgbClr val="8f8be1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Weighs 1 k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AutoShape 18"/>
          <p:cNvSpPr/>
          <p:nvPr/>
        </p:nvSpPr>
        <p:spPr>
          <a:xfrm>
            <a:off x="5867280" y="3733920"/>
            <a:ext cx="2590920" cy="914400"/>
          </a:xfrm>
          <a:prstGeom prst="cloudCallout">
            <a:avLst>
              <a:gd name="adj1" fmla="val -76962"/>
              <a:gd name="adj2" fmla="val 136458"/>
            </a:avLst>
          </a:prstGeom>
          <a:solidFill>
            <a:srgbClr val="ffff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hiny materia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2533c"/>
                </a:solidFill>
                <a:uFillTx/>
                <a:latin typeface="Arial"/>
              </a:rPr>
              <a:t>Qualitative Physical Properties:</a:t>
            </a:r>
            <a:endParaRPr b="0" lang="en-US" sz="3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Properties we can </a:t>
            </a: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observe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with our senses (sight, touch, smell)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290520" indent="-290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Observed and described without measurement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2286000"/>
            <a:ext cx="8007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533c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d2533c"/>
                </a:solidFill>
                <a:latin typeface="Arial"/>
              </a:rPr>
              <a:t> - solid, liquid, ga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Colour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red, blue, green… no colour = colourles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Odour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smell: sweet, pungent, mould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Clarity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transparent, translucent, opaqu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rough, smooth, gritt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Lustre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the ability of a material to reflect light: dull or shin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Ductility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metal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…can be pulled into a wi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Malleable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metal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…can be flattened: soft, flexible, har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2533c"/>
                </a:solidFill>
                <a:latin typeface="Arial"/>
              </a:rPr>
              <a:t>1. Properties of states of matter</a:t>
            </a:r>
            <a:endParaRPr b="0" lang="en-US" sz="3800" spc="-1" strike="noStrike">
              <a:solidFill>
                <a:srgbClr val="d2533c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57200" y="1447920"/>
          <a:ext cx="8229600" cy="4876560"/>
        </p:xfrm>
        <a:graphic>
          <a:graphicData uri="http://schemas.openxmlformats.org/drawingml/2006/table">
            <a:tbl>
              <a:tblPr/>
              <a:tblGrid>
                <a:gridCol w="2257560"/>
                <a:gridCol w="1820880"/>
                <a:gridCol w="1893600"/>
                <a:gridCol w="2257560"/>
              </a:tblGrid>
              <a:tr h="56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Property</a:t>
                      </a:r>
                      <a:endParaRPr b="0" lang="en-US" sz="2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Solid</a:t>
                      </a:r>
                      <a:endParaRPr b="0" lang="en-US" sz="2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Liquid</a:t>
                      </a:r>
                      <a:endParaRPr b="0" lang="en-US" sz="2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2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Indefinite 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(same as container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Indefinite 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(same as container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Volum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Definit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Definit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Indefinite 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(fills entire container)</a:t>
                      </a:r>
                      <a:r>
                        <a:rPr b="0" lang="fr-CA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Ability to flow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Ability to be compressed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Very slightly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Very slightly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Greatly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Volume change with heating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Very small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Large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funny-cat-inside-vase-liquid"/>
          <p:cNvPicPr/>
          <p:nvPr/>
        </p:nvPicPr>
        <p:blipFill>
          <a:blip r:embed="rId1"/>
          <a:srcRect l="0" t="0" r="0" b="9326"/>
          <a:stretch/>
        </p:blipFill>
        <p:spPr>
          <a:xfrm>
            <a:off x="533520" y="579600"/>
            <a:ext cx="807696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5:31:18Z</dcterms:created>
  <dc:creator>OCDSB</dc:creator>
  <dc:description/>
  <dc:language>en-US</dc:language>
  <cp:lastModifiedBy>Katie</cp:lastModifiedBy>
  <dcterms:modified xsi:type="dcterms:W3CDTF">2014-10-01T19:22:52Z</dcterms:modified>
  <cp:revision>50</cp:revision>
  <dc:subject/>
  <dc:title>Properties of Matter</dc:title>
</cp:coreProperties>
</file>